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DDF-46D7-49EC-9720-55FCF852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A49-7A21-4294-818A-A59C52A4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6DE-0CF7-495A-92B5-3DFB7499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3E9-B8BF-4186-8EAE-9E2B9A71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499-1A3A-4121-9590-24A9107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0BA-1F58-454D-B8A0-C91B346D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E98-547E-4C0B-9F65-8201391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3CC-A075-40CF-AEDD-3284A88F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F21-5370-4842-9017-5544101D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87F-9153-43A5-848D-D10B971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79C-C13C-4C18-B8CB-072E811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B16-BEA9-4E85-A0BF-FFB4D23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297-A10D-4970-9F7B-5BE0F735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Buzz Word Bingo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e PowerPoint presentation to your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the file in Microsoft Power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Slid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slide as many times as you nee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 title entry with your topic ti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each cell with the words or phrases you want the students to become familiar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for all the other s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Slide #1 (this slide) when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the file when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 Titl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" y="1905120"/>
            <a:ext cx="7924680" cy="4114800"/>
            <a:chOff x="685800" y="1905120"/>
            <a:chExt cx="7924680" cy="4114800"/>
          </a:xfrm>
        </p:grpSpPr>
        <p:sp>
          <p:nvSpPr>
            <p:cNvPr id="47" name=""/>
            <p:cNvSpPr/>
            <p:nvPr/>
          </p:nvSpPr>
          <p:spPr>
            <a:xfrm>
              <a:off x="6904080" y="519768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49960" y="519768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94040" y="519768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519768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519768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04080" y="4373640"/>
              <a:ext cx="170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49960" y="4373640"/>
              <a:ext cx="15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4040" y="4373640"/>
              <a:ext cx="155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4373640"/>
              <a:ext cx="135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437364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04080" y="355140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49960" y="355140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94040" y="355140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8280" y="355140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355140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04080" y="2727720"/>
              <a:ext cx="17064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49960" y="2727720"/>
              <a:ext cx="1554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94040" y="2727720"/>
              <a:ext cx="1555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2727720"/>
              <a:ext cx="1355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" y="2727720"/>
              <a:ext cx="17524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04080" y="1905120"/>
              <a:ext cx="1706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49960" y="1905120"/>
              <a:ext cx="15541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040" y="1905120"/>
              <a:ext cx="1555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8280" y="1905120"/>
              <a:ext cx="1355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1905120"/>
              <a:ext cx="1752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19051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27277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355140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437364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19768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60199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9404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4996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040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1048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6:16:06Z</dcterms:created>
  <dc:creator>dmungai</dc:creator>
  <dc:description/>
  <dc:language>en-US</dc:language>
  <cp:lastModifiedBy>Lorna Wong</cp:lastModifiedBy>
  <dcterms:modified xsi:type="dcterms:W3CDTF">2002-06-27T20:59:49Z</dcterms:modified>
  <cp:revision>11</cp:revision>
  <dc:subject/>
  <dc:title>BUZZ WORD BINGO</dc:title>
</cp:coreProperties>
</file>